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419720"/>
            <a:ext cx="6705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here do we go from here 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Today’s men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69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P work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s and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ning EM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 process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erials of this week’s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02480" y="65160"/>
            <a:ext cx="1541520" cy="66769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960" y="247680"/>
            <a:ext cx="85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P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65760" y="892080"/>
            <a:ext cx="2616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/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7560" y="1236600"/>
            <a:ext cx="1163520" cy="337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 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8160" y="1225440"/>
            <a:ext cx="24908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/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1255680"/>
            <a:ext cx="622080" cy="337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2240" y="1238400"/>
            <a:ext cx="1438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EXP 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19040" y="233208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L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08240" y="2955960"/>
            <a:ext cx="31683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FIRMATIO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20840" y="354024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22280" y="4164120"/>
            <a:ext cx="31305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DUCTS -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22280" y="4735440"/>
            <a:ext cx="31305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CT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24080" y="5359320"/>
            <a:ext cx="31305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24080" y="5956200"/>
            <a:ext cx="31305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25920" y="233532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TER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7720" y="295920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TER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7720" y="354348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29160" y="4167360"/>
            <a:ext cx="33591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KET ENTRY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29160" y="4738680"/>
            <a:ext cx="33591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30600" y="5362560"/>
            <a:ext cx="33591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VOCACY LOBB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30600" y="5959440"/>
            <a:ext cx="3359160" cy="33732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 BUSINES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931680" y="393480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7013520" y="364464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720" y="907920"/>
            <a:ext cx="3079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UAL 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86" idx="2"/>
            <a:endCxn id="88" idx="0"/>
          </p:cNvCxnSpPr>
          <p:nvPr/>
        </p:nvCxnSpPr>
        <p:spPr>
          <a:xfrm rot="5400000">
            <a:off x="2796480" y="1688760"/>
            <a:ext cx="731160" cy="55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4" idx="2"/>
            <a:endCxn id="88" idx="0"/>
          </p:cNvCxnSpPr>
          <p:nvPr/>
        </p:nvCxnSpPr>
        <p:spPr>
          <a:xfrm rot="5400000">
            <a:off x="4241520" y="224280"/>
            <a:ext cx="750240" cy="346644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PP work plan: criteria for se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560" y="1087200"/>
            <a:ext cx="860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Verdana"/>
              </a:rPr>
              <a:t>Can we comply with market access requireme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ndards, norms, time to compl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n we meet market demands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stomer values, pr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there sufficient potential to add value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y (production, market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es infrastructure permit timely deliveries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, frequency, convenience, ri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supply sufficient and diverse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s,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suppli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n the project be implemented within budget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lt; USD 50.0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PP – work plan - organ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9000" y="1483920"/>
            <a:ext cx="6705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 team leader/spokes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………………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Distribute tasks/roles in the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Phoebe on July 18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PP – work plan -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59000" y="1483920"/>
            <a:ext cx="6705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ddddd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Appoint team leader/spokes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ddd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Distribute tasks/roles in the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ly progress reports (half p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hoebeowuor@gmail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ms submit documents to IPEX/CB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ADLINE AUGUST 26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 Decision on short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ADLINE AUGUST 29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5640" y="907560"/>
            <a:ext cx="878508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Verdana"/>
              </a:rPr>
              <a:t>Intern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PEX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takeholders, existing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ternal analysis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ation: fre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www,intracen.org/ma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ation: fre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www.cbi.eu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BI webs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ww.cbi.eu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C Market Access Map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ww.macmap.org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C Trade/Country Maps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ww.trademap.or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BI website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ww.cbi.e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deric Koekoek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.j.koekoek@mercadero.n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Content – “knowledg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rothy Tuma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orothy_tuma@dmtconsultants.ne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Process related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ebe Owuor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hoebeowuor@gmail.c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urces and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EM preliminary 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560" y="1087200"/>
            <a:ext cx="860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of work on P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y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ess repor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ly till Aug 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s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of Ju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ission of final 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 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launch of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 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nary session (PP proposal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 15-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 29-Oct 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nary s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 1-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P team sessions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ebe on pro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4 till Dec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rothy on cont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4 till Dec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Today’s men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69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Verdana"/>
              </a:rPr>
              <a:t>PP work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ources and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lanning EM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 process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erials of this week’s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1:08:21Z</dcterms:created>
  <dc:creator> </dc:creator>
  <dc:description/>
  <dc:language>en-US</dc:language>
  <cp:lastModifiedBy>Eduado Salomao</cp:lastModifiedBy>
  <dcterms:modified xsi:type="dcterms:W3CDTF">2008-07-11T09:00:47Z</dcterms:modified>
  <cp:revision>128</cp:revision>
  <dc:subject/>
  <dc:title>Value Chain management</dc:title>
</cp:coreProperties>
</file>