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A7F-D23F-45F1-A523-0C0C446A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D98-281A-48F8-9450-7B34D6D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722-52B3-4C92-BAEE-F7412958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97D-8845-4505-A3A1-2C392059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BD3-145E-457B-9063-9D38F08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70F-CE7A-4003-AA73-ED87A1A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289-8D00-4562-9529-91BE035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0E5-5EEA-458D-9ED4-7B8ADD9F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EF0-2B86-4794-B308-74D46A18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827-2786-41D9-B085-014FC70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DFA-F3C9-4DBF-9B45-2A0F9A6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42A-C663-4E60-89FD-5EFB624F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EA7-FDF1-44F6-8F2D-27200E58A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BEANS PROJECT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2642760"/>
            <a:ext cx="8358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898989"/>
                </a:solidFill>
                <a:latin typeface="Calibri"/>
              </a:rPr>
              <a:t>QUESTIONS TO ASK ABOUT LOGISTICS: ALL IN-BOUND, INTERNAL AND OUT-BOUND MOVEMENT OF GOODS, AND THE ADMINISTRATIVE CONSEQUENCES OF THESE MOVEMENTS, SUPLLY CHAI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 you do to have your product on time in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kind of transport do you use and who provide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long does it take to bring inputs and to deliver your products to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cuments are required to have your products in the market and how long does it take to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nd how do you store your produ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many actors take part in the process of delivering the product to the marke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is the conditions of the roads internally and in-b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re your clients and suppliers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14:08Z</dcterms:created>
  <dc:creator>Cristiano Taimo</dc:creator>
  <dc:description/>
  <dc:language>en-US</dc:language>
  <cp:lastModifiedBy>cicm</cp:lastModifiedBy>
  <dcterms:modified xsi:type="dcterms:W3CDTF">2008-10-09T09:48:36Z</dcterms:modified>
  <cp:revision>11</cp:revision>
  <dc:subject/>
  <dc:title>BEANS PROJECT ASSIGNMENT</dc:title>
</cp:coreProperties>
</file>