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ECF8F-B6DF-40DD-B72C-BDA4D42BE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67CC3-AD59-490C-A3BF-D9107E34D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81409-3EAC-47F8-8E40-080A0AF16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97F76-AC0E-44AA-8383-B2FE36C33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2F209-B7F2-49A5-9AC2-43D7A143C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39194-C8C1-4565-B9EC-01C576536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35926-1B44-48C5-8E28-6572F4CFE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020BF-5CA8-47E6-8EEB-640124272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A0C84-AA85-4732-B811-33F078D6C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1B4F4-486E-470C-BCD4-914EDB334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47D3D-03DB-4742-B1C0-CB20E5AC5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57BEF-9E2B-43D3-B50B-A2404325C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520" y="61718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08080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1718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08080"/>
                </a:solidFill>
                <a:latin typeface="Arial"/>
              </a:rPr>
              <a:t>MMA - MCFW ® 2007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3AC77-0139-41DE-B1F8-F993285E06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8381880" y="0"/>
            <a:ext cx="762120" cy="685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0" y="3200400"/>
            <a:ext cx="91440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993300"/>
                </a:solidFill>
                <a:latin typeface="Arial"/>
              </a:rPr>
              <a:t>Developing 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993300"/>
                </a:solidFill>
                <a:latin typeface="Arial"/>
              </a:rPr>
              <a:t>Fair trade Cashew value Chai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9933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00"/>
                </a:solidFill>
                <a:latin typeface="Arial"/>
              </a:rPr>
              <a:t>May 20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685800" y="838080"/>
            <a:ext cx="741060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554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0">
                  <a:noFill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Bookman Old Style"/>
              </a:rPr>
              <a:t>Nampula FairTrade Cashew </a:t>
            </a:r>
            <a:endParaRPr b="1" lang="en-US" sz="3200" spc="1" strike="noStrike">
              <a:ln w="0">
                <a:noFill/>
              </a:ln>
              <a:solidFill>
                <a:srgbClr val="9933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01D24-178C-45D4-945A-558C49299D3C}" type="slidenum">
              <a:t>1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3300"/>
                </a:solidFill>
                <a:latin typeface="Arial"/>
              </a:rPr>
              <a:t>Roles and tasks Key ac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9933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1066680" y="1600200"/>
          <a:ext cx="7162920" cy="2890800"/>
        </p:xfrm>
        <a:graphic>
          <a:graphicData uri="http://schemas.openxmlformats.org/drawingml/2006/table">
            <a:tbl>
              <a:tblPr/>
              <a:tblGrid>
                <a:gridCol w="2291040"/>
                <a:gridCol w="4871880"/>
              </a:tblGrid>
              <a:tr h="291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cal service Provid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Okhalaher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Olip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ADP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World vis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Care Int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tc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bilising farm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ilding and capacitating associations &amp; Forum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veloping ICS (including traceability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cilitation of legal registration of associations &amp; Forum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porting on activities and progress and cos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8F35A-F0F7-4439-9E96-0BC7F899307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304920" y="1676520"/>
            <a:ext cx="853416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2143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solidFill>
                  <a:srgbClr val="9933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Looking forward </a:t>
            </a:r>
            <a:endParaRPr b="0" i="1" lang="en-US" sz="1800" spc="1" strike="noStrike">
              <a:ln w="0">
                <a:noFill/>
              </a:ln>
              <a:solidFill>
                <a:srgbClr val="9933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solidFill>
                  <a:srgbClr val="9933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to cooperate !</a:t>
            </a:r>
            <a:endParaRPr b="0" i="1" lang="en-US" sz="1800" spc="1" strike="noStrike">
              <a:ln w="0">
                <a:noFill/>
              </a:ln>
              <a:solidFill>
                <a:srgbClr val="9933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7573A-83B0-4A28-89DB-A5FFCE9D0F1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76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8" dur="250" autoRev="1" fill="hold"/>
                                        <p:tgtEl>
                                          <p:spTgt spid="6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3300"/>
                </a:solidFill>
                <a:latin typeface="Arial"/>
              </a:rPr>
              <a:t>Overall Go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3300"/>
                </a:solidFill>
                <a:latin typeface="Arial"/>
              </a:rPr>
              <a:t>Increase return from cashew for producer, processor and trader by penetrating fair-trade niche mark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Approach</a:t>
            </a: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is developing a viable and sustainable fair trade cashew value chain in Nampula Provi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4891A-2DFE-43B1-B400-01ACD06C77D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3300"/>
                </a:solidFill>
                <a:latin typeface="Arial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86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500 tons fair trade cashew purchased from farm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FLO has introduced a FT price setting system based at Factory gate leve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Farmers are paid the FT pr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Price differentiation on qualit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Organized marketing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Internal Control and Traceability systems in pl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Associations capacitated to grade on qu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100 Associations developed organized in 10 fora and fair trade certif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Fair trade certified Processing fa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48AE1-411D-4C27-9BF0-4BBDF298972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3300"/>
                </a:solidFill>
                <a:latin typeface="Arial"/>
              </a:rPr>
              <a:t>Strate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Global approach, and learning together (West Africa, East Africa, Vietna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Building on existing practices and using existing capac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Coherent and  co-ordinated collaboration between public and private a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Engaging a local co-ordin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Piloting in one area (production and processing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- Mecon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Performance based payment (all acto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E6527-3C50-45CE-BF5E-F0D9B1503B7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3300"/>
                </a:solidFill>
                <a:latin typeface="Arial"/>
              </a:rPr>
              <a:t>Activities for key ac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Arial"/>
              </a:rPr>
              <a:t>Validation of Program objectives and approach by key a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Arial"/>
              </a:rPr>
              <a:t>Compiling a project document and budg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Arial"/>
              </a:rPr>
              <a:t>Developing a collaborating fram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Arial"/>
              </a:rPr>
              <a:t>Identifying and appointing a local co-ordin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Arial"/>
              </a:rPr>
              <a:t>Identifying, assessing and engaging local service provi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Arial"/>
              </a:rPr>
              <a:t>Mobilising farmers and forming associ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Arial"/>
              </a:rPr>
              <a:t>Providing inputs for a new FT pricing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Arial"/>
              </a:rPr>
              <a:t>Developing a buying system based on qu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Arial"/>
              </a:rPr>
              <a:t>Developing ICS and traceability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Arial"/>
              </a:rPr>
              <a:t>Capacity building of associations and for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Arial"/>
              </a:rPr>
              <a:t>Facilitating FT cert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Arial"/>
              </a:rPr>
              <a:t>Supporting preparation for factory cert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63A6A-F0AA-4BEC-8451-D9ED50F41AE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3300"/>
                </a:solidFill>
                <a:latin typeface="Arial"/>
              </a:rPr>
              <a:t>Roles and tasks Key ac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9933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914400" y="1600200"/>
          <a:ext cx="7315200" cy="4343040"/>
        </p:xfrm>
        <a:graphic>
          <a:graphicData uri="http://schemas.openxmlformats.org/drawingml/2006/table">
            <a:tbl>
              <a:tblPr/>
              <a:tblGrid>
                <a:gridCol w="2443320"/>
                <a:gridCol w="4871880"/>
              </a:tblGrid>
              <a:tr h="164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turally Fai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ying and marketing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et develop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puts in  pricing system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9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ir Match Suppor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lobal co-ordin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cilitating mutual learn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puts to revision of FLO standards &amp; pricing mechanis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bilization of financial  resourc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racting of MMA  (and other regional coordinators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9C182-9502-479F-BE39-287CB5F9786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3300"/>
                </a:solidFill>
                <a:latin typeface="Arial"/>
              </a:rPr>
              <a:t>Roles and tasks Key ac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9933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914400" y="1600200"/>
          <a:ext cx="7315200" cy="4638600"/>
        </p:xfrm>
        <a:graphic>
          <a:graphicData uri="http://schemas.openxmlformats.org/drawingml/2006/table">
            <a:tbl>
              <a:tblPr/>
              <a:tblGrid>
                <a:gridCol w="2443320"/>
                <a:gridCol w="4871880"/>
              </a:tblGrid>
              <a:tr h="195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aging East Africa progr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pointing and supervising local coordinat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ck stopp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nitoring and reporting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8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cal  Co-ordinat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-ordination of local activit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tsourcing to service provid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nitoring and report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pacity building of local service provid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tworking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47A2E-4818-41A4-BD78-17CC67FDB8A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3300"/>
                </a:solidFill>
                <a:latin typeface="Arial"/>
              </a:rPr>
              <a:t>Roles and tasks Key ac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9933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914400" y="1600200"/>
          <a:ext cx="7315200" cy="4265640"/>
        </p:xfrm>
        <a:graphic>
          <a:graphicData uri="http://schemas.openxmlformats.org/drawingml/2006/table">
            <a:tbl>
              <a:tblPr/>
              <a:tblGrid>
                <a:gridCol w="2443320"/>
                <a:gridCol w="4871880"/>
              </a:tblGrid>
              <a:tr h="248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randacaj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veloping a transparent FT buying syste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ying cashew nuts on quality pric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essing and exporting FT cashe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veloping and implementing ICS at factory leve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pare for factory certific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8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aj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vision of planting materi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vision of technical assistan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nkage to other quality programs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E71A6-2D15-4D26-ABB7-FEC631D5B44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3300"/>
                </a:solidFill>
                <a:latin typeface="Arial"/>
              </a:rPr>
              <a:t>Roles and tasks Key ac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9933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914400" y="1600200"/>
          <a:ext cx="7315200" cy="4162320"/>
        </p:xfrm>
        <a:graphic>
          <a:graphicData uri="http://schemas.openxmlformats.org/drawingml/2006/table">
            <a:tbl>
              <a:tblPr/>
              <a:tblGrid>
                <a:gridCol w="2443320"/>
                <a:gridCol w="4871880"/>
              </a:tblGrid>
              <a:tr h="144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N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pacity building/support to Local Co-ordinator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pacity building of local service providers on association build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us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port to developing ICS for Fair trade  certific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0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chnoser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ining on quality manage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port to development of private extension servic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port to development of business plans on forum level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7E362-6877-4A2A-94F6-D26090D751B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3T10:41:09Z</dcterms:created>
  <dc:creator> </dc:creator>
  <dc:description> </dc:description>
  <cp:keywords/>
  <dc:language>en-US</dc:language>
  <cp:lastModifiedBy> </cp:lastModifiedBy>
  <dcterms:modified xsi:type="dcterms:W3CDTF">2008-06-13T11:36:52Z</dcterms:modified>
  <cp:revision>1</cp:revision>
  <dc:subject> </dc:subject>
  <dc:title> </dc:title>
</cp:coreProperties>
</file>