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3E8-2DC0-48BA-BF9E-BA2F98CC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68C-7247-4EA5-BC89-23F3CFE7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29F-8AD7-473B-900E-5885AA91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C4E-3BC7-4274-B5CA-299EF9F4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BCF-E73C-4527-BCFF-0A0D626D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52C-C279-4EAC-8798-4E78C887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330-9966-4A75-A493-561B5C5D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552-D6C0-4F6D-AB54-DACB1F59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9B1F-2C16-4CE7-8A78-432BD1F0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369-80AD-49AE-B2B7-9842EA2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8BF-C8A1-4646-A818-DC647437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67D-FAD0-4C51-87B7-A09EE51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9529-A16D-4BEC-B992-B141D8FE9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BEANS PROJECT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2642760"/>
            <a:ext cx="83581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898989"/>
                </a:solidFill>
                <a:latin typeface="Calibri"/>
              </a:rPr>
              <a:t>QUESTIONS TO ASK ABOUT LOGISTICS: ALL IN-BOUND, INTERNAL AND OUT-BOUND MOVEMENT OF GOODS, AND THE ADMINISTRATIVE CONSEQUENCES OF THESE MOVEMENTS, SUPLLY CHAI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do you do to have your product on time in the mark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kind of transport do you use and who provide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How long does it take to bring inputs and to deliver your products to the mark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documents are required to have your products in the market and how long does it take to 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ere and how do you store your produ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How many actors take part in the process of delivering the product to the marke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at is the conditions of the roads internally and in-b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Where are your clients and suppliers loc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14:08Z</dcterms:created>
  <dc:creator>Cristiano Taimo</dc:creator>
  <dc:description/>
  <dc:language>en-US</dc:language>
  <cp:lastModifiedBy>cicm</cp:lastModifiedBy>
  <dcterms:modified xsi:type="dcterms:W3CDTF">2008-10-09T09:48:36Z</dcterms:modified>
  <cp:revision>11</cp:revision>
  <dc:subject/>
  <dc:title>BEANS PROJECT ASSIGNMENT</dc:title>
</cp:coreProperties>
</file>