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EA2-DEE6-4E22-90DB-53569F25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38B-530E-40C4-80AD-14656EB5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C43-0FD0-4D89-B855-0D788805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152-50B8-4688-A04D-38B6CDF6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686-53B2-48A7-98B8-4170D429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52B-19A3-41E2-BC75-3B392591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F94-803E-48D4-AEAA-0742D6D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616-CBFB-47F9-961E-8F6D31D4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6D9-C9AC-4D62-8CE0-DFBC07CE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449-97FD-49F8-9BEE-98BECDFE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DF1-5F28-4B89-85B1-43BAD61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6A6-D116-409E-A849-0B9EBF7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MMA - MCFW ® 20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DB4-BB91-4462-8882-825076EDE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Developing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Fair trade Cashew value Ch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3300"/>
                </a:solidFill>
                <a:latin typeface="Arial"/>
              </a:rPr>
              <a:t>Ma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838080"/>
            <a:ext cx="7410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5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Nampula FairTrade Cashew </a:t>
            </a:r>
            <a:endParaRPr b="1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708-2494-41BB-82DC-14BF01A1923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1600200"/>
          <a:ext cx="7162920" cy="2890800"/>
        </p:xfrm>
        <a:graphic>
          <a:graphicData uri="http://schemas.openxmlformats.org/drawingml/2006/table">
            <a:tbl>
              <a:tblPr/>
              <a:tblGrid>
                <a:gridCol w="2291040"/>
                <a:gridCol w="4871880"/>
              </a:tblGrid>
              <a:tr h="29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halah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li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D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orld 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are I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sing 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and capacitating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CS (including traceabili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on of legal registration of associations &amp; For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on activities and progress and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E4B-DC69-4644-977D-F2BE17FE2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4920" y="1676520"/>
            <a:ext cx="853416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ooking forward 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o cooperate !</a:t>
            </a:r>
            <a:endParaRPr b="0" i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109-EAA7-483F-B81A-C02A49AB88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Overal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Increase return from cashew for producer, processor and trader by penetrating fair-trade niche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roach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s developing a viable and sustainable fair trade cashew value chain in Nampula Pro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C9A-28DA-4C7D-9D2A-82CA54A67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500 tons fair trade cashew purchased from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LO has introduced a FT price setting system based at Factory gate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rmers are paid the FT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rice differentiation on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Organize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ternal Control and Traceability systems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Associations capacitated to grade 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100 Associations developed organized in 10 fora and fair trade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air trade certified Processing fa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A56-E5EC-4470-816F-5F673DDA61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Global approach, and learning together (West Africa, East Africa, Viet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Building on existing practices and using exist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oherent and  co-ordinated collaboration between public and private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Engaging a local co-ord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iloting in one area (production and process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- Mec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erformance based payment (all ac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99B-CC2D-4EDD-846B-87D5B276DE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Activities for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Validation of Program objectives and approach by key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ompiling a project document and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collaborating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 and appointing a local co-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Identifying, assessing and engaging local servic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Mobilising farmers and forming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Providing inputs for a new FT pri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a buying system based 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Developing ICS and traceabi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Capacity building of associations and f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Facilitating FT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upporting preparation for factory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000-3EFE-4BDF-9DE5-3599D3D28F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14400" y="1600200"/>
          <a:ext cx="7315200" cy="43430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6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ly F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and marke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in  pricing syst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 Match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-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ing mutual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s to revision of FLO standards &amp; pricing mech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tion of financial 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ng of MMA  (and other regional coordinator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8DF-FAEF-43D1-ADFB-38675BF24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14400" y="1600200"/>
          <a:ext cx="7315200" cy="463860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9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ing East Africa 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ing and supervising local co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 st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 Co-ordin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ordination of local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ourcing to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and rep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8DA4-0978-4366-A401-8EBF395290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1600200"/>
          <a:ext cx="7315200" cy="426564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24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nda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 transparent FT buy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cashew nuts on quality pric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and exporting FT cash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and implementing ICS at factory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 for factory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planting 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sion of technical as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 to other quality program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880-F7E2-4AD6-BC4B-4CB38D3F27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Roles and tasks Key 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14400" y="1600200"/>
          <a:ext cx="7315200" cy="4162320"/>
        </p:xfrm>
        <a:graphic>
          <a:graphicData uri="http://schemas.openxmlformats.org/drawingml/2006/table">
            <a:tbl>
              <a:tblPr/>
              <a:tblGrid>
                <a:gridCol w="2443320"/>
                <a:gridCol w="487188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/support to Local Co-ordinat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 of local service providers on association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ing ICS for Fair trade 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n quality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private extension ser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to development of business plans on forum lev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309-F4D8-48E7-A8F2-A2573CD079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0:41:09Z</dcterms:created>
  <dc:creator> </dc:creator>
  <dc:description> </dc:description>
  <cp:keywords/>
  <dc:language>en-US</dc:language>
  <cp:lastModifiedBy> </cp:lastModifiedBy>
  <dcterms:modified xsi:type="dcterms:W3CDTF">2008-06-13T11:36:52Z</dcterms:modified>
  <cp:revision>1</cp:revision>
  <dc:subject> </dc:subject>
  <dc:title> </dc:title>
</cp:coreProperties>
</file>