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BI-IPEX institutional development in expo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5805360"/>
            <a:ext cx="761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Market information for pilot project sel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bout everything releva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graphic, et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analysis for pilot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2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entry issues –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transactiona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access issues –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contextual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imp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imp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 deman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is your buy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is the end-us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se your end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 deman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s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: product, taste, shape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: process, 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ED:    place and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:    pro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ET :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: social concerns, health and saf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 access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ernment imposed - leg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iffs/import duties 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ions/directive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stry impo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……………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ing market re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what you want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search plan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primary and secondary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various sources (…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ging for gold” – cbi 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for enough time and a small budget for paid subscri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i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3:02:55Z</dcterms:created>
  <dc:creator> </dc:creator>
  <dc:description> </dc:description>
  <cp:keywords/>
  <dc:language>en-US</dc:language>
  <cp:lastModifiedBy>hans verhulst</cp:lastModifiedBy>
  <dcterms:modified xsi:type="dcterms:W3CDTF">2008-07-09T18:17:26Z</dcterms:modified>
  <cp:revision>6</cp:revision>
  <dc:subject> </dc:subject>
  <dc:title> </dc:title>
</cp:coreProperties>
</file>