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794-4C17-4652-8DBA-39661F04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192-99D7-4146-9EF0-4A1A3332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EB1-26F0-4CF7-B4A9-FBFE47BE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CD6-72C2-4D80-A6DB-87E37B5B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E73-8E95-4550-A0D5-42AF47F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D67-690F-42FA-87AC-20687B6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1D6-74B8-496F-A3B4-5A8472B6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2FC-5931-427E-8A83-C5332D1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890-B99D-4902-81D5-8EDF5DF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931-2E17-4F2D-89E5-891AF10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FDC-A491-409D-86AF-E357F63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C1E-6E9F-4DDE-B0D7-F6F6F40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MMA - MCFW ®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204-6285-410E-B734-400EEEE1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Develop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Fair trade Cashew value Ch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a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838080"/>
            <a:ext cx="741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Nampula FairTrade Cashew </a:t>
            </a:r>
            <a:endParaRPr b="1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858-9367-43E0-9FEA-A50224E9E05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00200"/>
          <a:ext cx="7162920" cy="2890800"/>
        </p:xfrm>
        <a:graphic>
          <a:graphicData uri="http://schemas.openxmlformats.org/drawingml/2006/table">
            <a:tbl>
              <a:tblPr/>
              <a:tblGrid>
                <a:gridCol w="2291040"/>
                <a:gridCol w="4871880"/>
              </a:tblGrid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halah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li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D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orld 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e I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s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and capacitating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CS (including traceabil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on of legal registration of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on activities and progress an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A90-2FAA-40C3-8909-5D60D2A457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4920" y="1676520"/>
            <a:ext cx="8534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oking forward 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o cooperate !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E09-B170-4AEA-97D2-172A1CB7DE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Overal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ncrease return from cashew for producer, processor and trader by penetrating fair-trade niche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roa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developing a viable and sustainable fair trade cashew value chain in Nampula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7F8-1E3E-4F4C-8716-DB0DC7ABF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00 tons fair trade cashew purchased from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LO has introduced a FT price setting system based at Factory gate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rmers are paid the F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ice differentiation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e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ternal Control and Traceability system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sociations capacitated to grade 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0 Associations developed organized in 10 fora and fair trade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ir trade certified Processing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5EA-09B1-4410-BED3-22A0EE6926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lobal approach, and learning together (West Africa, East Africa, Viet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ilding on existing practices and using exist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herent and  co-ordinated collaboration between public and privat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gaging a local co-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iloting in one area (production and process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- Me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rformance based payment (all 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CA3-1848-4ED4-B383-86AD2B40E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ctivities for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alidation of Program objectives and approach by key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mpiling a project document an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collaborat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 and appointing a local co-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, assessing and engaging loca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obilising farmers and forming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viding inputs for a new FT pri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buying system based 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ICS and traceabi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pacity building of associations and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acilitating FT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upporting preparation for factory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506-9A7E-4560-979B-AF80F13EA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600200"/>
          <a:ext cx="7315200" cy="43430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ly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and marke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in  pricing syst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Match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ng mutual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to revision of FLO standards &amp; pric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financial 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of MMA  (and other regional coordinator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791-B83C-4570-A809-13F8B7C92D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1600200"/>
          <a:ext cx="7315200" cy="463860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East Afric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ing and supervising local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st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 Co-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ion of local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ourcing to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8E3-A10D-42C1-92E6-F214DD7B5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600200"/>
          <a:ext cx="7315200" cy="42656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nda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 transparent FT buy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cashew nuts on quality pri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exporting FT cash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nd implementing ICS at factory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for factory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planting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technical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 to other quality progra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FFC-D836-43D5-A762-F9E5264378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600200"/>
          <a:ext cx="7315200" cy="416232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/support to Local Co-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 on association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ing ICS for Fair trade 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n qualit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private extension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business plans on forum lev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DCC-7933-4E04-B215-8CBE7255C6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0:41:09Z</dcterms:created>
  <dc:creator> </dc:creator>
  <dc:description> </dc:description>
  <cp:keywords/>
  <dc:language>en-US</dc:language>
  <cp:lastModifiedBy> </cp:lastModifiedBy>
  <dcterms:modified xsi:type="dcterms:W3CDTF">2008-06-13T11:36:52Z</dcterms:modified>
  <cp:revision>1</cp:revision>
  <dc:subject> </dc:subject>
  <dc:title> </dc:title>
</cp:coreProperties>
</file>