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032-DDD6-4F75-A25F-E656B0AA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2E5C-AEB0-4297-B4A0-D87B80F5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698-0662-4C77-A3F7-8209D064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A3B1-6D33-40CD-82B6-A8D123E4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DBE-6AE2-4DC9-AAF6-F97F1F00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10F8-EF2F-4CC8-94F7-F4CD2A97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F05-0A84-48B8-9565-2015F507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A4A-89EC-4C1B-AAE9-9B7A2AEE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301-642F-4EB3-934E-6FFC2037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6A6-C1BF-479F-B552-FD51013D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68B2-4903-4420-8BA0-B7BAAD34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D9D-0984-46E6-9E22-ACCE2AD6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0BF9-5E0D-45EC-B10B-9354D382C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BEANS PROJECT ASS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2642760"/>
            <a:ext cx="83581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898989"/>
                </a:solidFill>
                <a:latin typeface="Calibri"/>
              </a:rPr>
              <a:t>QUESTIONS TO ASK ABOUT LOGISTICS: ALL IN-BOUND, INTERNAL AND OUT-BOUND MOVEMENT OF GOODS, AND THE ADMINISTRATIVE CONSEQUENCES OF THESE MOVEMENTS, SUPLLY CHAIN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at do you do to have your product on time in the mark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at kind of transport do you use and who provide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How long does it take to bring inputs and to deliver your products to the mark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at documents are required to have your products in the market and how long does it take to g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ere and how do you store your produc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How many actors take part in the process of delivering the product to the marke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at is the conditions of the roads internally and in-b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ere are your clients and suppliers loc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9:14:08Z</dcterms:created>
  <dc:creator>Cristiano Taimo</dc:creator>
  <dc:description/>
  <dc:language>en-US</dc:language>
  <cp:lastModifiedBy>cicm</cp:lastModifiedBy>
  <dcterms:modified xsi:type="dcterms:W3CDTF">2008-10-09T09:48:36Z</dcterms:modified>
  <cp:revision>11</cp:revision>
  <dc:subject/>
  <dc:title>BEANS PROJECT ASSIGNMENT</dc:title>
</cp:coreProperties>
</file>