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1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48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1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48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1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48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1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448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4419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55280" y="508464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Verdana"/>
              </a:rPr>
              <a:t>Assisting you to assist your export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436572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M and the pilot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414000"/>
            <a:ext cx="828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Objective of pilot pro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090880"/>
            <a:ext cx="7488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lp you to understand the process of  export development and export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ort value chains built, constraints identified and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eate a number of “testimonials” that can help IPEX to conquer its place in the export valu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25120" y="475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Link Pilot Projects and EM mod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836720"/>
            <a:ext cx="7775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ilot-projects are the real-life process to which the EM subjects are li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ilot-projects will be managed by participants in EM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ilot-projects will be supported by regional CBI experts and the EM module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Lessons learned from pilots will be fed into continuation of EM, EU-planning and possibly new MD module (mid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7960" y="247680"/>
            <a:ext cx="76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88920" y="1636560"/>
            <a:ext cx="708840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main steps in the export process for a S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idea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contact to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“crossroad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main hurd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points where IPEX could help the SME’s i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 a concis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02480" y="38160"/>
            <a:ext cx="1541520" cy="66769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247680"/>
            <a:ext cx="85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EM – pilot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65760" y="892080"/>
            <a:ext cx="2616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S/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7560" y="1236600"/>
            <a:ext cx="1163520" cy="337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 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8160" y="1225440"/>
            <a:ext cx="24908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/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9120" y="1255680"/>
            <a:ext cx="622080" cy="337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2240" y="1238400"/>
            <a:ext cx="14382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 EXP 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9040" y="2332080"/>
            <a:ext cx="3130560" cy="337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PPL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08240" y="2955960"/>
            <a:ext cx="3168360" cy="337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FIRMATION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20840" y="3540240"/>
            <a:ext cx="3130560" cy="337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22280" y="4164120"/>
            <a:ext cx="3130560" cy="337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DUCTS -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22280" y="4735440"/>
            <a:ext cx="3130560" cy="337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JECT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4080" y="5359320"/>
            <a:ext cx="3130560" cy="337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24080" y="5956200"/>
            <a:ext cx="3130560" cy="3373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25920" y="2335320"/>
            <a:ext cx="3359160" cy="3373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NTERN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27720" y="2959200"/>
            <a:ext cx="3359160" cy="3373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TERN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3543480"/>
            <a:ext cx="3359160" cy="3373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 AU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29160" y="4167360"/>
            <a:ext cx="3359160" cy="3373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KET ENTRY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29160" y="4738680"/>
            <a:ext cx="3359160" cy="3373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0600" y="5362560"/>
            <a:ext cx="3359160" cy="3373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VOCACY LOBB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30600" y="5959440"/>
            <a:ext cx="3359160" cy="3373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 BUSINES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-931680" y="3934800"/>
            <a:ext cx="30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7013520" y="3644640"/>
            <a:ext cx="30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6720" y="907920"/>
            <a:ext cx="3079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UAL 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1" idx="2"/>
            <a:endCxn id="93" idx="0"/>
          </p:cNvCxnSpPr>
          <p:nvPr/>
        </p:nvCxnSpPr>
        <p:spPr>
          <a:xfrm rot="5400000">
            <a:off x="2796480" y="1688760"/>
            <a:ext cx="731160" cy="55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89" idx="2"/>
            <a:endCxn id="93" idx="0"/>
          </p:cNvCxnSpPr>
          <p:nvPr/>
        </p:nvCxnSpPr>
        <p:spPr>
          <a:xfrm rot="5400000">
            <a:off x="4241520" y="224280"/>
            <a:ext cx="750240" cy="346644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7960" y="247680"/>
            <a:ext cx="76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Assignment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88920" y="1852560"/>
            <a:ext cx="70884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re going to convert the long list of pilot projects into a “short list” (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 us a working method on how to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S IS ABOUT THE PROCESS,          NOT ABOUT TH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37960" y="247680"/>
            <a:ext cx="76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Assignment 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88920" y="1852560"/>
            <a:ext cx="70884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re going to convert the long list of pilot projects into a “short list” (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Give us a working method on how to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fine the criteria that you will use to select the final pilo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440" y="266760"/>
            <a:ext cx="8713800" cy="645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7:17:48Z</dcterms:created>
  <dc:creator>hans verhulst</dc:creator>
  <dc:description/>
  <dc:language>en-US</dc:language>
  <cp:lastModifiedBy>hans verhulst</cp:lastModifiedBy>
  <dcterms:modified xsi:type="dcterms:W3CDTF">2008-07-09T07:18:17Z</dcterms:modified>
  <cp:revision>1</cp:revision>
  <dc:subject/>
  <dc:title>Dia 1</dc:title>
</cp:coreProperties>
</file>