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419720"/>
            <a:ext cx="6705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he export process flow</a:t>
            </a: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 temp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267336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734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       (S/O) CHALLENGE (W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30640" y="170028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4" idx="2"/>
            <a:endCxn id="156" idx="1"/>
          </p:cNvCxnSpPr>
          <p:nvPr/>
        </p:nvCxnSpPr>
        <p:spPr>
          <a:xfrm flipH="1" rot="16200000">
            <a:off x="1701000" y="1866600"/>
            <a:ext cx="1218240" cy="121212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5" idx="2"/>
            <a:endCxn id="156" idx="3"/>
          </p:cNvCxnSpPr>
          <p:nvPr/>
        </p:nvCxnSpPr>
        <p:spPr>
          <a:xfrm rot="5400000">
            <a:off x="5828400" y="1831680"/>
            <a:ext cx="1216800" cy="128340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2627280" y="54936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393228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0323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DUCT/MARKET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56" idx="2"/>
            <a:endCxn id="167" idx="0"/>
          </p:cNvCxnSpPr>
          <p:nvPr/>
        </p:nvCxnSpPr>
        <p:spPr>
          <a:xfrm>
            <a:off x="4355640" y="3487320"/>
            <a:ext cx="1080" cy="445320"/>
          </a:xfrm>
          <a:prstGeom prst="straightConnector1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The PM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3920" y="1555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MC = product/market comb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571840"/>
            <a:ext cx="205092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ESH   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7440" y="2571840"/>
            <a:ext cx="205128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GO       PU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29440" y="2571840"/>
            <a:ext cx="205092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GO   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121360"/>
            <a:ext cx="205092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FES/BARS RESTAURANTS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57440" y="5127480"/>
            <a:ext cx="205128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SMETIC INDUSTRY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9440" y="5127480"/>
            <a:ext cx="205092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ESH FRUIT MARKETS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2" idx="2"/>
            <a:endCxn id="176" idx="0"/>
          </p:cNvCxnSpPr>
          <p:nvPr/>
        </p:nvCxnSpPr>
        <p:spPr>
          <a:xfrm flipH="1" rot="16200000">
            <a:off x="2139120" y="2783160"/>
            <a:ext cx="1915200" cy="2774160"/>
          </a:xfrm>
          <a:prstGeom prst="bentConnector3">
            <a:avLst>
              <a:gd name="adj1" fmla="val 499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3" idx="2"/>
            <a:endCxn id="175" idx="0"/>
          </p:cNvCxnSpPr>
          <p:nvPr/>
        </p:nvCxnSpPr>
        <p:spPr>
          <a:xfrm rot="5400000">
            <a:off x="2141640" y="2780280"/>
            <a:ext cx="1909080" cy="2774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2"/>
            <a:endCxn id="177" idx="0"/>
          </p:cNvCxnSpPr>
          <p:nvPr/>
        </p:nvCxnSpPr>
        <p:spPr>
          <a:xfrm flipV="1" rot="10800000">
            <a:off x="7254000" y="3212640"/>
            <a:ext cx="1080" cy="19152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3" idx="2"/>
            <a:endCxn id="177" idx="0"/>
          </p:cNvCxnSpPr>
          <p:nvPr/>
        </p:nvCxnSpPr>
        <p:spPr>
          <a:xfrm flipH="1" rot="16200000">
            <a:off x="4910400" y="2784240"/>
            <a:ext cx="1915200" cy="2772000"/>
          </a:xfrm>
          <a:prstGeom prst="bentConnector3">
            <a:avLst>
              <a:gd name="adj1" fmla="val 499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68360" y="3357720"/>
            <a:ext cx="1872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000000"/>
                </a:solidFill>
                <a:latin typeface="Verdana"/>
              </a:rPr>
              <a:t>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13440" y="3357720"/>
            <a:ext cx="18716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000000"/>
                </a:solidFill>
                <a:latin typeface="Verdana"/>
              </a:rPr>
              <a:t>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The PM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3920" y="1555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MC = product/market comb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571840"/>
            <a:ext cx="20509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SH   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57440" y="2571840"/>
            <a:ext cx="20512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GO       PU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9440" y="2571840"/>
            <a:ext cx="205092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GO   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5121360"/>
            <a:ext cx="205092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FES/BARS RESTAURANTS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57440" y="5127480"/>
            <a:ext cx="2051280" cy="91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SMETIC INDUSTRY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9440" y="5127480"/>
            <a:ext cx="2050920" cy="91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SH FRUIT MARKETS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8" idx="2"/>
            <a:endCxn id="189" idx="0"/>
          </p:cNvCxnSpPr>
          <p:nvPr/>
        </p:nvCxnSpPr>
        <p:spPr>
          <a:xfrm rot="5400000">
            <a:off x="3527280" y="1394280"/>
            <a:ext cx="1909080" cy="55458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349360"/>
            <a:ext cx="2879640" cy="814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24494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       (S/O) CHALLENGE (W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30640" y="170028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2"/>
            <a:endCxn id="195" idx="1"/>
          </p:cNvCxnSpPr>
          <p:nvPr/>
        </p:nvCxnSpPr>
        <p:spPr>
          <a:xfrm flipH="1" rot="16200000">
            <a:off x="1862640" y="1704600"/>
            <a:ext cx="894600" cy="121212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2"/>
            <a:endCxn id="195" idx="3"/>
          </p:cNvCxnSpPr>
          <p:nvPr/>
        </p:nvCxnSpPr>
        <p:spPr>
          <a:xfrm rot="5400000">
            <a:off x="5990400" y="1669680"/>
            <a:ext cx="893160" cy="128340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2627280" y="54936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584280"/>
            <a:ext cx="0" cy="82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339408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34941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DUCT/MARKET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6360" y="445140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45514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 ENTR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92720" y="3176640"/>
            <a:ext cx="0" cy="21600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4221000"/>
            <a:ext cx="0" cy="25272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115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Market entry strate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8360" y="1233360"/>
            <a:ext cx="64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can we reach the market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an we make customers buy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an we create valu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CUSTOMER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800360" y="4221000"/>
          <a:ext cx="5435640" cy="206676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CRIF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L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4192560" y="34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60028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27003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       (S/O) CHALLENGE (W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30640" y="178452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6" idx="2"/>
            <a:endCxn id="218" idx="1"/>
          </p:cNvCxnSpPr>
          <p:nvPr/>
        </p:nvCxnSpPr>
        <p:spPr>
          <a:xfrm flipH="1" rot="16200000">
            <a:off x="1737360" y="1829880"/>
            <a:ext cx="1145160" cy="121212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7" idx="2"/>
            <a:endCxn id="218" idx="3"/>
          </p:cNvCxnSpPr>
          <p:nvPr/>
        </p:nvCxnSpPr>
        <p:spPr>
          <a:xfrm rot="5400000">
            <a:off x="5865120" y="1794960"/>
            <a:ext cx="1143720" cy="128340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2627280" y="54936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5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6360" y="364500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37450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DUCT/MARKET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4689360"/>
            <a:ext cx="2879640" cy="814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47894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 ENTR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578340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7640" y="58831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/FINAN CONTR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2720" y="3429000"/>
            <a:ext cx="0" cy="21600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4437000"/>
            <a:ext cx="0" cy="25236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5516640"/>
            <a:ext cx="0" cy="25236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Operational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1560" y="1197000"/>
            <a:ext cx="7426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les, distribution, agency contr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sivity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of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of deli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/post shipment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 of pa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cing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down – bottom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dgets, foreca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s, margens,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260028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7003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       (S/O) CHALLENGE (W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30640" y="178452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9" idx="2"/>
            <a:endCxn id="81" idx="1"/>
          </p:cNvCxnSpPr>
          <p:nvPr/>
        </p:nvCxnSpPr>
        <p:spPr>
          <a:xfrm flipH="1" rot="16200000">
            <a:off x="1737360" y="1829880"/>
            <a:ext cx="1145160" cy="121212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0" idx="2"/>
            <a:endCxn id="81" idx="3"/>
          </p:cNvCxnSpPr>
          <p:nvPr/>
        </p:nvCxnSpPr>
        <p:spPr>
          <a:xfrm rot="5400000">
            <a:off x="5865120" y="1794960"/>
            <a:ext cx="1143720" cy="128340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627280" y="54936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5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364500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37450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DUCT/MARKET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689360"/>
            <a:ext cx="2879640" cy="814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47894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 ENTR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578340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58831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/FINAN CONTR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3429000"/>
            <a:ext cx="0" cy="21600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4437000"/>
            <a:ext cx="0" cy="25236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5516640"/>
            <a:ext cx="0" cy="25236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0640" y="228924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1" idx="2"/>
          </p:cNvCxnSpPr>
          <p:nvPr/>
        </p:nvCxnSpPr>
        <p:spPr>
          <a:xfrm flipH="1" rot="16200000">
            <a:off x="1423800" y="2143440"/>
            <a:ext cx="1772280" cy="121212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627280" y="549360"/>
            <a:ext cx="1765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584280"/>
            <a:ext cx="0" cy="16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960640"/>
            <a:ext cx="5760720" cy="34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ARATIVE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???????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????????????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???????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ETITIVE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???????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?????????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????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2"/>
            <a:endCxn id="113" idx="3"/>
          </p:cNvCxnSpPr>
          <p:nvPr/>
        </p:nvCxnSpPr>
        <p:spPr>
          <a:xfrm rot="5400000">
            <a:off x="5600520" y="2780280"/>
            <a:ext cx="2393280" cy="56268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50920" y="1917720"/>
            <a:ext cx="626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ONSUMERS,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VOLUMES, PRICES,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ACCESS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ONSUMER H&amp;S, OHS, TECHNICAL STANDARDS, ENVIRONMENT, ETC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STOM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BENEFITS MINUS SACRIFICES WHEN PURCHASING/USING YOU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D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AGENTS, IMPORTERS, DISTRIBUTORS, RETA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0640" y="228924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54936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584280"/>
            <a:ext cx="0" cy="16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2920" y="77760"/>
            <a:ext cx="80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SWOT – the export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0920" y="765000"/>
          <a:ext cx="8686800" cy="5616720"/>
        </p:xfrm>
        <a:graphic>
          <a:graphicData uri="http://schemas.openxmlformats.org/drawingml/2006/table">
            <a:tbl>
              <a:tblPr/>
              <a:tblGrid>
                <a:gridCol w="3276360"/>
                <a:gridCol w="685800"/>
                <a:gridCol w="685800"/>
                <a:gridCol w="609840"/>
                <a:gridCol w="685800"/>
                <a:gridCol w="685800"/>
                <a:gridCol w="685800"/>
                <a:gridCol w="685800"/>
                <a:gridCol w="685800"/>
              </a:tblGrid>
              <a:tr h="2530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rot="16200000">
            <a:off x="383400" y="4124880"/>
            <a:ext cx="2989440" cy="1381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303200"/>
            <a:ext cx="338472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R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1089000"/>
            <a:ext cx="20163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1773360"/>
            <a:ext cx="111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6720" y="2170080"/>
            <a:ext cx="0" cy="90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85720" y="1163520"/>
            <a:ext cx="2236680" cy="7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165320"/>
            <a:ext cx="2236680" cy="69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3227400"/>
            <a:ext cx="2879640" cy="814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2034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5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9800" y="119700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KETS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51600" y="2491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3274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       (S/O) CHALLENGE (W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30640" y="228924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0" idx="2"/>
            <a:endCxn id="132" idx="1"/>
          </p:cNvCxnSpPr>
          <p:nvPr/>
        </p:nvCxnSpPr>
        <p:spPr>
          <a:xfrm flipH="1" rot="16200000">
            <a:off x="1423800" y="2143440"/>
            <a:ext cx="1772280" cy="121212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1" idx="2"/>
            <a:endCxn id="132" idx="3"/>
          </p:cNvCxnSpPr>
          <p:nvPr/>
        </p:nvCxnSpPr>
        <p:spPr>
          <a:xfrm rot="5400000">
            <a:off x="5551560" y="2108520"/>
            <a:ext cx="1770840" cy="1283400"/>
          </a:xfrm>
          <a:prstGeom prst="bentConnector2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627280" y="54936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84280"/>
            <a:ext cx="0" cy="16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2500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Verdana"/>
              </a:rPr>
              <a:t>Results of the SW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3920" y="1555920"/>
            <a:ext cx="67057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00"/>
                </a:solidFill>
                <a:latin typeface="Verdana"/>
              </a:rPr>
              <a:t>FOCUS – “S” and “O”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ique</a:t>
            </a:r>
            <a:r>
              <a:rPr b="1" lang="nl-NL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ings the company should use to enter into the market.                  Unique selling proposition: </a:t>
            </a:r>
            <a:r>
              <a:rPr b="1" lang="nl-NL" sz="2400" spc="-1" strike="noStrike">
                <a:solidFill>
                  <a:srgbClr val="003399"/>
                </a:solidFill>
                <a:latin typeface="Verdana"/>
              </a:rPr>
              <a:t>“USP”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Verdana"/>
              </a:rPr>
              <a:t>CHALLENGE -  “W” and “T”      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ings the company should improve by itself or look for partners to solve </a:t>
            </a:r>
            <a:r>
              <a:rPr b="1" lang="nl-NL" sz="2400" spc="-1" strike="noStrike">
                <a:solidFill>
                  <a:srgbClr val="003399"/>
                </a:solidFill>
                <a:latin typeface="Verdana"/>
              </a:rPr>
              <a:t>“ALLIANC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765000"/>
          <a:ext cx="8507160" cy="5830920"/>
        </p:xfrm>
        <a:graphic>
          <a:graphicData uri="http://schemas.openxmlformats.org/drawingml/2006/table">
            <a:tbl>
              <a:tblPr/>
              <a:tblGrid>
                <a:gridCol w="2773440"/>
                <a:gridCol w="647640"/>
                <a:gridCol w="647640"/>
                <a:gridCol w="703080"/>
                <a:gridCol w="622440"/>
                <a:gridCol w="623880"/>
                <a:gridCol w="622440"/>
                <a:gridCol w="622080"/>
                <a:gridCol w="622440"/>
                <a:gridCol w="622080"/>
              </a:tblGrid>
              <a:tr h="2373480">
                <a:tc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2920" y="44280"/>
            <a:ext cx="80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SWOT – The export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56000" y="3716280"/>
            <a:ext cx="1871640" cy="1189080"/>
          </a:xfrm>
          <a:prstGeom prst="ellipse">
            <a:avLst/>
          </a:prstGeom>
          <a:solidFill>
            <a:srgbClr val="ff0000">
              <a:alpha val="2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24360" y="3105000"/>
            <a:ext cx="1871640" cy="648000"/>
          </a:xfrm>
          <a:prstGeom prst="ellipse">
            <a:avLst/>
          </a:prstGeom>
          <a:solidFill>
            <a:srgbClr val="008000">
              <a:alpha val="26000"/>
            </a:srgbClr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3645000"/>
            <a:ext cx="1871640" cy="684000"/>
          </a:xfrm>
          <a:prstGeom prst="ellipse">
            <a:avLst/>
          </a:prstGeom>
          <a:solidFill>
            <a:srgbClr val="ff0000">
              <a:alpha val="24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4834080"/>
            <a:ext cx="1871640" cy="647640"/>
          </a:xfrm>
          <a:prstGeom prst="ellipse">
            <a:avLst/>
          </a:prstGeom>
          <a:solidFill>
            <a:srgbClr val="008000">
              <a:alpha val="27000"/>
            </a:srgbClr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1089000"/>
            <a:ext cx="20160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W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70200" y="1773360"/>
            <a:ext cx="111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8200" y="2170080"/>
            <a:ext cx="0" cy="90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1:08:21Z</dcterms:created>
  <dc:creator> </dc:creator>
  <dc:description/>
  <dc:language>en-US</dc:language>
  <cp:lastModifiedBy>hans verhulst</cp:lastModifiedBy>
  <dcterms:modified xsi:type="dcterms:W3CDTF">2008-07-10T09:31:10Z</dcterms:modified>
  <cp:revision>96</cp:revision>
  <dc:subject/>
  <dc:title>Value Chain management</dc:title>
</cp:coreProperties>
</file>