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F973-37E9-4DDA-8C31-F830FAA91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86A6-90E7-4BDC-86BF-5E0765F4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8418-E662-48AD-8D08-AD726E8A9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21E1-299C-461E-B808-4DA14931D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98C3-E529-41F5-B83C-1B00C7C2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F320-A517-4011-9E7A-F07F30F9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28BC-5D86-4145-ACA0-6EEE76D6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3DF2-CB48-4EE3-9C13-E7226CB4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0C4B-E4C0-432D-9B64-0935D3C9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4788-62B5-4107-B69D-2A4C41A0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C87C-666D-4D78-8C7C-1412AABA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3336-24B2-4F02-BE1B-C5F14DC2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7056-3352-450B-93E4-AD8A24D78D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785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BEANS PROJECT ASSIG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760" y="2642760"/>
            <a:ext cx="83581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898989"/>
                </a:solidFill>
                <a:latin typeface="Calibri"/>
              </a:rPr>
              <a:t>QUESTIONS TO ASK ABOUT LOGISTICS: ALL IN-BOUND, INTERNAL AND OUT-BOUND MOVEMENT OF GOODS, AND THE ADMINISTRATIVE CONSEQUENCES OF THESE MOVEMENTS, SUPLLY CHAIN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What do you do to have your product on time in the mark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What kind of transport do you use and who provides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How long does it take to bring inputs and to deliver your products to the mark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What documents are required to have your products in the market and how long does it take to g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Where and how do you store your produc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How many actors take part in the process of delivering the product to the market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What is the conditions of the roads internally and in-bou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Where are your clients and suppliers locat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09:14:08Z</dcterms:created>
  <dc:creator>Cristiano Taimo</dc:creator>
  <dc:description/>
  <dc:language>en-US</dc:language>
  <cp:lastModifiedBy>cicm</cp:lastModifiedBy>
  <dcterms:modified xsi:type="dcterms:W3CDTF">2008-10-09T09:48:36Z</dcterms:modified>
  <cp:revision>11</cp:revision>
  <dc:subject/>
  <dc:title>BEANS PROJECT ASSIGNMENT</dc:title>
</cp:coreProperties>
</file>