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230-6EB1-4850-9A06-2EB5FD1A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ECD-DCB5-429D-B11B-DE0F4B12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957-A182-4D9A-9BE7-3279DB97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26C-D3B0-4B28-9138-FF3BC21C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CF4-34E5-4094-8158-FB3B1DE2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CA0-8E36-46A1-A86B-1249CEB8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9B6-C623-4231-96A0-1D4EF671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B06-E664-45EB-ADCD-15CE2339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0F2-F98B-4C54-A327-53C3AFDF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980-14C6-4154-80E4-B5BD79D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E90-F5A8-4BCC-AF26-5124341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EA4-77F9-45F9-8E6C-A10F4FED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MMA - MCFW ®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F152-B3FA-4A60-9537-1F6288D0D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3200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Developing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Fair trade Cashew value Ch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a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838080"/>
            <a:ext cx="741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5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Nampula FairTrade Cashew </a:t>
            </a:r>
            <a:endParaRPr b="1" lang="en-US" sz="32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24F-C122-4A86-B367-0E603244DABF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6680" y="1600200"/>
          <a:ext cx="7162920" cy="2890800"/>
        </p:xfrm>
        <a:graphic>
          <a:graphicData uri="http://schemas.openxmlformats.org/drawingml/2006/table">
            <a:tbl>
              <a:tblPr/>
              <a:tblGrid>
                <a:gridCol w="2291040"/>
                <a:gridCol w="4871880"/>
              </a:tblGrid>
              <a:tr h="29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halah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li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D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orld 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are I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sing 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and capacitating associations &amp; For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CS (including traceabilit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ion of legal registration of associations &amp; For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ing on activities and progress and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D22-0BD0-47FE-9BE6-2F90F40049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04920" y="1676520"/>
            <a:ext cx="853416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ooking forward </a:t>
            </a:r>
            <a:endParaRPr b="0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o cooperate !</a:t>
            </a:r>
            <a:endParaRPr b="0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08E-8F53-4EF3-A2B0-2BB4971FBA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Overal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Increase return from cashew for producer, processor and trader by penetrating fair-trade niche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pproach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s developing a viable and sustainable fair trade cashew value chain in Nampula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0E5-5563-407A-A2D3-D0F2D1C419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500 tons fair trade cashew purchased from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LO has introduced a FT price setting system based at Factory gate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armers are paid the FT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ice differentiation on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Organized marke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nternal Control and Traceability systems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ssociations capacitated to grade o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100 Associations developed organized in 10 fora and fair trade cer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air trade certified Processing 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B02-FB90-46A1-9060-6B6D6494BD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lobal approach, and learning together (West Africa, East Africa, Viet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Building on existing practices and using exist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herent and  co-ordinated collaboration between public and private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gaging a local co-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iloting in one area (production and process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- Meco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erformance based payment (all a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5CE-5DA7-4B72-9F6B-5AAF197271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Activities for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Validation of Program objectives and approach by key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ompiling a project document and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a collaborating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dentifying and appointing a local co-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dentifying, assessing and engaging loca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obilising farmers and forming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viding inputs for a new FT pri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a buying system based 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ICS and traceabi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apacity building of associations and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Facilitating FT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upporting preparation for factory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883-6D32-48A5-947F-9F4292168F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1600200"/>
          <a:ext cx="7315200" cy="434304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ly F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and marke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s in  pricing syst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 Match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-ord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ing mutual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s to revision of FLO standards &amp; pricing mech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zation of financial 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ng of MMA  (and other regional coordinator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284-C7AC-4ADF-8CCE-93768F1FB1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14400" y="1600200"/>
          <a:ext cx="7315200" cy="463860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9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ing East Africa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ointing and supervising local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 st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and report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 Co-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ordination of local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ourcing to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and repo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 of local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297-D94D-4BE4-B2CE-5CB59FAA2F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1600200"/>
          <a:ext cx="7315200" cy="426564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24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andaca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a transparent FT buy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cashew nuts on quality pric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and exporting FT cash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and implementing ICS at factory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 for factory cer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 of planting 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 of technical ass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 to other quality program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E85-9947-4D11-8C5D-3DFB0DA252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14400" y="1600200"/>
          <a:ext cx="7315200" cy="416232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/support to Local Co-ordina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 of local service providers on association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ing ICS for Fair trade  cer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ser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on qualit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ment of private extension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ment of business plans on forum lev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E18-8CD5-47FA-AFFF-B24DA40B0F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0:41:09Z</dcterms:created>
  <dc:creator> </dc:creator>
  <dc:description> </dc:description>
  <cp:keywords/>
  <dc:language>en-US</dc:language>
  <cp:lastModifiedBy> </cp:lastModifiedBy>
  <dcterms:modified xsi:type="dcterms:W3CDTF">2008-06-13T11:36:52Z</dcterms:modified>
  <cp:revision>1</cp:revision>
  <dc:subject> </dc:subject>
  <dc:title> </dc:title>
</cp:coreProperties>
</file>