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13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486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13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486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13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486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13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4486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50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50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51920" cy="6865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4419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419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BI/IPEX BSOD pro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14040" y="55627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ort management modu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4240" y="272880"/>
            <a:ext cx="9013680" cy="6272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7960" y="24768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IPEX and the value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02480" y="38160"/>
            <a:ext cx="1541520" cy="66769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5800" y="1139760"/>
            <a:ext cx="1852560" cy="520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76840" y="290520"/>
            <a:ext cx="1852920" cy="580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ONORS 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05560" y="3174840"/>
            <a:ext cx="2001960" cy="580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UNCTIONAL INSTIT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7000" y="3938760"/>
            <a:ext cx="2001960" cy="580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TORAL INSTIT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08800" y="4727520"/>
            <a:ext cx="2001960" cy="580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GIONAL INSTIT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8040" y="5591160"/>
            <a:ext cx="2001960" cy="5806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OPERATIONS CLUSTERS     SME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93920" y="2930400"/>
            <a:ext cx="18529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KET INFO TRAINING    PROJECTS MATCH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2480" y="2405160"/>
            <a:ext cx="185256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P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4" idx="2"/>
            <a:endCxn id="85" idx="0"/>
          </p:cNvCxnSpPr>
          <p:nvPr/>
        </p:nvCxnSpPr>
        <p:spPr>
          <a:xfrm>
            <a:off x="7503840" y="880920"/>
            <a:ext cx="3960" cy="2294640"/>
          </a:xfrm>
          <a:prstGeom prst="straightConnector1">
            <a:avLst/>
          </a:prstGeom>
          <a:ln w="38160">
            <a:solidFill>
              <a:srgbClr val="333399"/>
            </a:solidFill>
            <a:prstDash val="sysDot"/>
            <a:miter/>
            <a:tailEnd len="med" type="triangle" w="med"/>
          </a:ln>
        </p:spPr>
      </p:cxnSp>
      <p:cxnSp>
        <p:nvCxnSpPr>
          <p:cNvPr id="92" name=""/>
          <p:cNvCxnSpPr>
            <a:stCxn id="89" idx="3"/>
            <a:endCxn id="85" idx="1"/>
          </p:cNvCxnSpPr>
          <p:nvPr/>
        </p:nvCxnSpPr>
        <p:spPr>
          <a:xfrm>
            <a:off x="5046840" y="3470040"/>
            <a:ext cx="1459440" cy="1080"/>
          </a:xfrm>
          <a:prstGeom prst="bentConnector2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9" idx="3"/>
            <a:endCxn id="86" idx="1"/>
          </p:cNvCxnSpPr>
          <p:nvPr/>
        </p:nvCxnSpPr>
        <p:spPr>
          <a:xfrm>
            <a:off x="5046840" y="3470040"/>
            <a:ext cx="1460880" cy="764280"/>
          </a:xfrm>
          <a:prstGeom prst="bentConnector3">
            <a:avLst>
              <a:gd name="adj1" fmla="val 49889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9" idx="3"/>
            <a:endCxn id="87" idx="1"/>
          </p:cNvCxnSpPr>
          <p:nvPr/>
        </p:nvCxnSpPr>
        <p:spPr>
          <a:xfrm>
            <a:off x="5046480" y="3470400"/>
            <a:ext cx="1462680" cy="1553040"/>
          </a:xfrm>
          <a:prstGeom prst="bentConnector3">
            <a:avLst>
              <a:gd name="adj1" fmla="val 49926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5" idx="3"/>
            <a:endCxn id="88" idx="3"/>
          </p:cNvCxnSpPr>
          <p:nvPr/>
        </p:nvCxnSpPr>
        <p:spPr>
          <a:xfrm flipH="1">
            <a:off x="2339640" y="3470040"/>
            <a:ext cx="6168240" cy="2539080"/>
          </a:xfrm>
          <a:prstGeom prst="bentConnector3">
            <a:avLst>
              <a:gd name="adj1" fmla="val -3677"/>
            </a:avLst>
          </a:prstGeom>
          <a:ln w="76320">
            <a:solidFill>
              <a:srgbClr val="777777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8516880" y="3470400"/>
            <a:ext cx="214200" cy="0"/>
          </a:xfrm>
          <a:prstGeom prst="line">
            <a:avLst/>
          </a:prstGeom>
          <a:ln w="7632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05720" y="5033880"/>
            <a:ext cx="214560" cy="0"/>
          </a:xfrm>
          <a:prstGeom prst="line">
            <a:avLst/>
          </a:prstGeom>
          <a:ln w="7632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3" idx="2"/>
            <a:endCxn id="88" idx="0"/>
          </p:cNvCxnSpPr>
          <p:nvPr/>
        </p:nvCxnSpPr>
        <p:spPr>
          <a:xfrm rot="5400000">
            <a:off x="-620640" y="3628080"/>
            <a:ext cx="3923280" cy="3960"/>
          </a:xfrm>
          <a:prstGeom prst="bentConnector3">
            <a:avLst>
              <a:gd name="adj1" fmla="val 49977"/>
            </a:avLst>
          </a:prstGeom>
          <a:ln w="76320">
            <a:solidFill>
              <a:srgbClr val="777777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488960" y="2190600"/>
            <a:ext cx="15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SO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3" idx="3"/>
            <a:endCxn id="85" idx="0"/>
          </p:cNvCxnSpPr>
          <p:nvPr/>
        </p:nvCxnSpPr>
        <p:spPr>
          <a:xfrm>
            <a:off x="2268000" y="1405080"/>
            <a:ext cx="5239800" cy="1770480"/>
          </a:xfrm>
          <a:prstGeom prst="bentConnector2">
            <a:avLst/>
          </a:prstGeom>
          <a:ln w="38160">
            <a:solidFill>
              <a:srgbClr val="333399"/>
            </a:solidFill>
            <a:prstDash val="sysDot"/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 rot="16200000">
            <a:off x="252000" y="3478320"/>
            <a:ext cx="15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C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 flipH="1" rot="16200000">
            <a:off x="1759680" y="1250640"/>
            <a:ext cx="1014840" cy="1850040"/>
          </a:xfrm>
          <a:prstGeom prst="bentConnector2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3" name=""/>
          <p:cNvCxnSpPr/>
          <p:nvPr/>
        </p:nvCxnSpPr>
        <p:spPr>
          <a:xfrm rot="5400000">
            <a:off x="2237040" y="4124880"/>
            <a:ext cx="1986840" cy="1782000"/>
          </a:xfrm>
          <a:prstGeom prst="bentConnector2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8520120" y="4248000"/>
            <a:ext cx="214200" cy="0"/>
          </a:xfrm>
          <a:prstGeom prst="line">
            <a:avLst/>
          </a:prstGeom>
          <a:ln w="7632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02480" y="38160"/>
            <a:ext cx="1541520" cy="66769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5800" y="1139760"/>
            <a:ext cx="1852560" cy="520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93920" y="2930400"/>
            <a:ext cx="18529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O/STUDIES TRAINING    PROJECTS MATCH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92480" y="2405160"/>
            <a:ext cx="185256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P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/>
          <p:nvPr/>
        </p:nvCxnSpPr>
        <p:spPr>
          <a:xfrm flipH="1" rot="16200000">
            <a:off x="1759680" y="1250640"/>
            <a:ext cx="1014840" cy="1850040"/>
          </a:xfrm>
          <a:prstGeom prst="bentConnector2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2063880" y="4402080"/>
            <a:ext cx="1074600" cy="3988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65320" y="5038560"/>
            <a:ext cx="107460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66760" y="5662440"/>
            <a:ext cx="1074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68560" y="6273720"/>
            <a:ext cx="107460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82760" y="4392720"/>
            <a:ext cx="470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PLANNING 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84560" y="5029200"/>
            <a:ext cx="4708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OR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86000" y="5653080"/>
            <a:ext cx="470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87800" y="6264360"/>
            <a:ext cx="4708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6" idx="2"/>
            <a:endCxn id="110" idx="1"/>
          </p:cNvCxnSpPr>
          <p:nvPr/>
        </p:nvCxnSpPr>
        <p:spPr>
          <a:xfrm flipH="1" rot="16200000">
            <a:off x="235080" y="2776320"/>
            <a:ext cx="2937600" cy="721440"/>
          </a:xfrm>
          <a:prstGeom prst="bentConnector2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2"/>
            <a:endCxn id="111" idx="1"/>
          </p:cNvCxnSpPr>
          <p:nvPr/>
        </p:nvCxnSpPr>
        <p:spPr>
          <a:xfrm flipH="1" rot="16200000">
            <a:off x="-82440" y="3094200"/>
            <a:ext cx="3574080" cy="722520"/>
          </a:xfrm>
          <a:prstGeom prst="bentConnector2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6" idx="2"/>
            <a:endCxn id="112" idx="1"/>
          </p:cNvCxnSpPr>
          <p:nvPr/>
        </p:nvCxnSpPr>
        <p:spPr>
          <a:xfrm flipH="1" rot="16200000">
            <a:off x="-393840" y="3404880"/>
            <a:ext cx="4197960" cy="724320"/>
          </a:xfrm>
          <a:prstGeom prst="bentConnector2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6" idx="2"/>
            <a:endCxn id="113" idx="1"/>
          </p:cNvCxnSpPr>
          <p:nvPr/>
        </p:nvCxnSpPr>
        <p:spPr>
          <a:xfrm flipH="1" rot="16200000">
            <a:off x="-699480" y="3709800"/>
            <a:ext cx="4809240" cy="726120"/>
          </a:xfrm>
          <a:prstGeom prst="bentConnector2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1488960" y="2317680"/>
            <a:ext cx="1575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KI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7960" y="247680"/>
            <a:ext cx="86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BSOD” programs  </a:t>
            </a: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(Business Support Organization Develop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51440" y="2419200"/>
            <a:ext cx="15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PEX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2"/>
            <a:endCxn id="107" idx="3"/>
          </p:cNvCxnSpPr>
          <p:nvPr/>
        </p:nvCxnSpPr>
        <p:spPr>
          <a:xfrm rot="5400000">
            <a:off x="5607000" y="2439360"/>
            <a:ext cx="470880" cy="1592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02480" y="38160"/>
            <a:ext cx="1541520" cy="66769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5800" y="1139760"/>
            <a:ext cx="1852560" cy="520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0640" y="1165320"/>
            <a:ext cx="18525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O/STUDIES TRAINING    PROJECTS MATCH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69200" y="639720"/>
            <a:ext cx="185256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P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7960" y="247680"/>
            <a:ext cx="646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EM modu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3"/>
            <a:endCxn id="129" idx="1"/>
          </p:cNvCxnSpPr>
          <p:nvPr/>
        </p:nvCxnSpPr>
        <p:spPr>
          <a:xfrm flipV="1">
            <a:off x="2268000" y="904320"/>
            <a:ext cx="4201560" cy="500760"/>
          </a:xfrm>
          <a:prstGeom prst="bentConnector3">
            <a:avLst>
              <a:gd name="adj1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600200" y="1762200"/>
            <a:ext cx="23162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KET RESEARCH  -  DESK RESEARCH -  FIELD RESEARCH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1640" y="3681360"/>
            <a:ext cx="23162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VERSIFICATION   -   VALUE ADDING  -   ADAPTED PR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90840" y="4622760"/>
            <a:ext cx="23158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KETING              -   DISTRIBUTION   -   PROMOTION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27" idx="2"/>
            <a:endCxn id="132" idx="1"/>
          </p:cNvCxnSpPr>
          <p:nvPr/>
        </p:nvCxnSpPr>
        <p:spPr>
          <a:xfrm flipH="1" rot="16200000">
            <a:off x="1216080" y="1795320"/>
            <a:ext cx="511920" cy="257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7" idx="2"/>
            <a:endCxn id="133" idx="1"/>
          </p:cNvCxnSpPr>
          <p:nvPr/>
        </p:nvCxnSpPr>
        <p:spPr>
          <a:xfrm flipH="1" rot="16200000">
            <a:off x="257040" y="2754000"/>
            <a:ext cx="2431080" cy="25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7" idx="2"/>
            <a:endCxn id="134" idx="1"/>
          </p:cNvCxnSpPr>
          <p:nvPr/>
        </p:nvCxnSpPr>
        <p:spPr>
          <a:xfrm flipH="1" rot="16200000">
            <a:off x="-218880" y="3230280"/>
            <a:ext cx="3372480" cy="248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601640" y="2716200"/>
            <a:ext cx="23162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PORT AUDIT       - SWOT ANALYSIS  – ENTRY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7" idx="2"/>
            <a:endCxn id="138" idx="1"/>
          </p:cNvCxnSpPr>
          <p:nvPr/>
        </p:nvCxnSpPr>
        <p:spPr>
          <a:xfrm flipH="1" rot="16200000">
            <a:off x="739800" y="2271600"/>
            <a:ext cx="1465920" cy="25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4181400" y="2716200"/>
            <a:ext cx="4157640" cy="367128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RANSFER OF 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MIN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XP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RANSFER OF SKI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ORKSH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N THE JOB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ILO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9680" y="5640480"/>
            <a:ext cx="23158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LES                         -   COMM/FINANCE    -   CONTRACTUAL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27" idx="2"/>
            <a:endCxn id="141" idx="1"/>
          </p:cNvCxnSpPr>
          <p:nvPr/>
        </p:nvCxnSpPr>
        <p:spPr>
          <a:xfrm flipH="1" rot="16200000">
            <a:off x="-734400" y="3744720"/>
            <a:ext cx="4390200" cy="23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7960" y="247680"/>
            <a:ext cx="76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EM module” – envisaged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88920" y="1382760"/>
            <a:ext cx="708840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PEX staff and external local experts serve effectively emerging export companies in developing exports to    the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PEX services disseminated amongst its market segments in accordance with customer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 value chains built, constraints identified and addressed in a number of pilot projects – “testimonial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8:26:31Z</dcterms:created>
  <dc:creator>hans verhulst</dc:creator>
  <dc:description/>
  <dc:language>en-US</dc:language>
  <cp:lastModifiedBy>hans verhulst</cp:lastModifiedBy>
  <dcterms:modified xsi:type="dcterms:W3CDTF">2008-07-09T07:18:53Z</dcterms:modified>
  <cp:revision>51</cp:revision>
  <dc:subject/>
  <dc:title>CBI-IPEX institutional development in exports</dc:title>
</cp:coreProperties>
</file>